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562850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6AB-F4A8-4045-A250-359D3B9D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280" y="948960"/>
            <a:ext cx="6426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3087720"/>
            <a:ext cx="64263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6436080"/>
            <a:ext cx="64263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6CF-C0FA-4D62-9029-2BBEB1E9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280" y="948960"/>
            <a:ext cx="6426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3087720"/>
            <a:ext cx="3135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9560" y="3087720"/>
            <a:ext cx="3135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6436080"/>
            <a:ext cx="3135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9560" y="6436080"/>
            <a:ext cx="3135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4C9-27B7-4971-A578-EDDA17FF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280" y="948960"/>
            <a:ext cx="6426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3087720"/>
            <a:ext cx="20689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8880" y="3087720"/>
            <a:ext cx="20689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11840" y="3087720"/>
            <a:ext cx="20689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6436080"/>
            <a:ext cx="20689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8880" y="6436080"/>
            <a:ext cx="20689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11840" y="6436080"/>
            <a:ext cx="20689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DA0-9FB4-4289-9525-13D22C57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280" y="948960"/>
            <a:ext cx="6426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3087720"/>
            <a:ext cx="6426360" cy="64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D05-EE74-4326-86F1-4D69A910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280" y="948960"/>
            <a:ext cx="6426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3087720"/>
            <a:ext cx="6426360" cy="64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6D6-B7DC-4C7B-9032-FBD5AE13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280" y="948960"/>
            <a:ext cx="6426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3087720"/>
            <a:ext cx="3135960" cy="64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9560" y="3087720"/>
            <a:ext cx="3135960" cy="64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3EF-2AEF-47AB-B047-64E65ED0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280" y="948960"/>
            <a:ext cx="6426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14F-9D6D-45D4-988B-6838C6E8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6280" y="948960"/>
            <a:ext cx="6426360" cy="82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554-DEA1-4FCA-89C0-38FD0840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280" y="948960"/>
            <a:ext cx="6426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3087720"/>
            <a:ext cx="3135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9560" y="3087720"/>
            <a:ext cx="3135960" cy="64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6436080"/>
            <a:ext cx="3135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9F8-6C60-4B9F-B9C5-96E35373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280" y="948960"/>
            <a:ext cx="6426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3087720"/>
            <a:ext cx="3135960" cy="64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9560" y="3087720"/>
            <a:ext cx="3135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9560" y="6436080"/>
            <a:ext cx="3135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F81-FD92-4E8F-B4C0-F35CE5EB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280" y="948960"/>
            <a:ext cx="6426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3087720"/>
            <a:ext cx="3135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9560" y="3087720"/>
            <a:ext cx="3135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6436080"/>
            <a:ext cx="64263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673-F8AF-4C6E-AC62-D5975FC1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6280" y="948960"/>
            <a:ext cx="6426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3087720"/>
            <a:ext cx="6426360" cy="64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6640" y="9739440"/>
            <a:ext cx="15732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080" y="9739440"/>
            <a:ext cx="239076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800" y="9739440"/>
            <a:ext cx="15732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A96D1-0E47-4047-B446-E0404B468455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7400" y="762120"/>
            <a:ext cx="52578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 MT"/>
              </a:rPr>
              <a:t>Ahmed Adnan Aqraw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  <a:ea typeface="ArialMT"/>
              </a:rPr>
              <a:t>Three Dimen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  <a:ea typeface="ArialMT"/>
              </a:rPr>
              <a:t>Convolution of Larg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  <a:ea typeface="ArialMT"/>
              </a:rPr>
              <a:t>Sets on Modern G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 MT"/>
                <a:ea typeface="ArialMT"/>
              </a:rPr>
              <a:t>Supervisor: Dr. Anne C. Elster, I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 MT"/>
                <a:ea typeface="ArialMT"/>
              </a:rPr>
              <a:t>Co-supervisor: Victor Aarre, Schlumberger Stav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 MT"/>
              </a:rPr>
              <a:t>Trondheim, December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  <a:ea typeface="Arial"/>
              </a:rPr>
              <a:t>NT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  <a:ea typeface="ArialMT"/>
              </a:rPr>
              <a:t>Norwegian University of Science and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  <a:ea typeface="ArialMT"/>
              </a:rPr>
              <a:t>Faculty of Information Technology, Mathematics and Electrical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  <a:ea typeface="ArialMT"/>
              </a:rPr>
              <a:t>Department of Computer and Information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23880" y="1066680"/>
            <a:ext cx="3124080" cy="3124440"/>
          </a:xfrm>
          <a:prstGeom prst="ellipse">
            <a:avLst/>
          </a:prstGeom>
          <a:solidFill>
            <a:srgbClr val="3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2682360" y="5103000"/>
            <a:ext cx="71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 MT"/>
                <a:ea typeface="ArialMT"/>
              </a:rPr>
              <a:t>TDT4590 Complex Comput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 MT"/>
                <a:ea typeface="ArialMT"/>
              </a:rPr>
              <a:t>Specialization Project, Fall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9880" y="8991720"/>
            <a:ext cx="2438640" cy="81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10:15:31Z</dcterms:created>
  <dc:creator>Kolbjørn Skarpnes</dc:creator>
  <dc:description/>
  <dc:language>en-US</dc:language>
  <cp:lastModifiedBy>Mads Nordtvedt</cp:lastModifiedBy>
  <cp:lastPrinted>2005-06-28T10:32:48Z</cp:lastPrinted>
  <dcterms:modified xsi:type="dcterms:W3CDTF">2007-12-13T13:23:58Z</dcterms:modified>
  <cp:revision>78</cp:revision>
  <dc:subject/>
  <dc:title>PowerPoint Presentation</dc:title>
</cp:coreProperties>
</file>